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3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6C4-B7F6-4B78-8A5B-6A6190F9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699-5134-4C7A-8C41-87F7D1C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A12-355A-40FE-9E10-D6645FD9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148-E163-4DC9-9ED3-4F6A000E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DAD-14AB-4ACA-9527-D9E6AF91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E97-EED4-4971-A528-94540558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B8E-1E5F-4DE0-8E35-B31521B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B41-5C26-465F-962E-C6DE9F9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B48-134C-43E5-8358-E04C9213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A11-72AB-4C56-BA0F-B2CCE5D5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BB9-757C-4890-937D-3C1D4F92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872-B0C7-4486-A4F2-6DD74380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661A-BA6A-45CF-879A-C2267CD2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F13-886A-4327-A3A6-7BEA424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7C9D-5435-4148-BCFD-705D3A55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8974-83D1-45C7-B513-5912DAFF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379D-D15E-4437-9247-13855F98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37F3-AC7D-4B97-ADDE-DC8430CD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38F-6B73-4161-B440-8C7BF7E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05AB-11C7-4446-9CCE-814331D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0A94-F679-4B50-A34C-288AA32F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94BC-D4BD-4759-AA50-24DD93A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12E7-35DF-4D4E-95C0-C75A9B55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167-AB24-42D0-A0C2-CC6FECA8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C0AD-1FE8-4D8E-A2F9-23805AEE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7FB5-40FB-4511-893D-177DBFC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1FFF-EFED-4EB7-914A-A2F89037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8E73-3218-486B-BCC0-8FE4C15A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AF62-590A-4F66-B79F-D11C2717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FC3B-D8D7-4C37-981D-42CDE064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9A38-A4C3-4FEE-9A03-CE53CF0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7330-B2C7-4763-ADFE-36C0E86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FD95-541D-44ED-BA40-6E0DD9B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B0A8-7938-448C-97CF-F0AD42CE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D658-32BF-4799-B8C1-9E5AB8A8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1D99-1A08-4E11-9760-674EEDE0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324480" y="533520"/>
            <a:ext cx="2438640" cy="9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5D23-31C2-4B32-9C98-96E05B312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4"/>
          <p:cNvSpPr>
            <a:spLocks noGrp="1"/>
          </p:cNvSpPr>
          <p:nvPr>
            <p:ph type="body"/>
          </p:nvPr>
        </p:nvSpPr>
        <p:spPr>
          <a:xfrm>
            <a:off x="457200" y="173664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12120" indent="-3121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73664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455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EEE4-9755-409B-9313-57EC67ED7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57200" y="1676520"/>
            <a:ext cx="5867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body"/>
          </p:nvPr>
        </p:nvSpPr>
        <p:spPr>
          <a:xfrm>
            <a:off x="457200" y="173664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12120" indent="-3121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C92E-920F-4BE2-AF2D-DABFF43AB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6823080" y="533520"/>
            <a:ext cx="1417680" cy="152388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542360" y="289080"/>
            <a:ext cx="148752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6805440" y="303120"/>
            <a:ext cx="17528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228240" cy="69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Arial Narrow"/>
              </a:rPr>
              <a:t>2010 Media Recap</a:t>
            </a:r>
            <a:endParaRPr b="1" lang="en-US" sz="36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65240" y="5487840"/>
            <a:ext cx="1055520" cy="3193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915840" y="210960"/>
            <a:ext cx="1019160" cy="30024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8621640" y="150840"/>
            <a:ext cx="522360" cy="3826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-7920" y="6359400"/>
            <a:ext cx="9144000" cy="4273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203040" y="131760"/>
            <a:ext cx="489240" cy="4698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5275440" y="184320"/>
            <a:ext cx="1415880" cy="29520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8"/>
          <a:stretch/>
        </p:blipFill>
        <p:spPr>
          <a:xfrm>
            <a:off x="6975360" y="190440"/>
            <a:ext cx="1103400" cy="3175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9"/>
          <a:stretch/>
        </p:blipFill>
        <p:spPr>
          <a:xfrm>
            <a:off x="2263680" y="150840"/>
            <a:ext cx="1543320" cy="3650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10"/>
          <a:stretch/>
        </p:blipFill>
        <p:spPr>
          <a:xfrm>
            <a:off x="4203720" y="79200"/>
            <a:ext cx="663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55:00Z</dcterms:created>
  <dc:creator>TBS</dc:creator>
  <dc:description/>
  <dc:language>en-US</dc:language>
  <cp:lastModifiedBy>anitar</cp:lastModifiedBy>
  <dcterms:modified xsi:type="dcterms:W3CDTF">2011-05-20T17:33:48Z</dcterms:modified>
  <cp:revision>6</cp:revision>
  <dc:subject/>
  <dc:title>Slide 1</dc:title>
</cp:coreProperties>
</file>